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drumroll.wav" ContentType="audio/x-wav"/>
  <Override PartName="/ppt/media/chimes.wav" ContentType="audio/x-wav"/>
  <Override PartName="/ppt/media/type.wav" ContentType="audio/x-wav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CF3-7DA3-4F2C-8FA8-83AD1DE5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7D2-02B9-4F56-9915-C88DFA86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C43-4D81-4495-B08E-217F9E6F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C58-987B-4338-8253-66CE485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188-A538-4748-929F-A5FDB2CA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E534-1132-4595-A9E2-ABE199B5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598C-B988-4256-98E8-EFDE6382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F5B8-6822-4D38-9119-D810D4C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ACE8-15DA-4E6D-9F68-B275A27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290-A674-44FD-8C95-0BEB709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A162-BC9F-4E0A-93AD-94C3AEF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A97-38C4-4360-8D9E-4955C89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152A-EEF4-4E3A-AD7D-8E4F4CF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1866-DAD2-4F13-A058-FE04F8B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481-7200-4B72-842C-C1E01B9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B53-6FCC-4538-B2AE-F03A0F69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7F79-27AC-403A-A9F2-D417EC7E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770-01BF-46DD-9DB7-3994F727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CC0-8ED6-4D17-B41E-C7434EC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B17-8B99-4686-B842-7D409416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EA4-37F4-4D61-85BA-EBB8A825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0B5-4D6A-4222-BF6B-8430CAB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56A-E945-442D-89B7-76C1E22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B93-8E71-40AC-8BC7-88A3A6C7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77CA-CCFF-444E-BDE4-FE48EF0AD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A087-BE22-4093-81F3-87AF25E5E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ulumoon.com/details.asp?ProductCode=161-00081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NGLIS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(Somebody)______________________ wants _______________, but ___________________, so ____________________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What things does she constantly grieve ov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What things does Mathilde Loisel dream o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Describe Mr. Loisel’s feelings for his wife.  Give specific examples to support your ans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Give an example of an idiom from the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What did Mathilde Loisel borrow from Mme. Foresti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How has Madame Loisel changed from the beginning of the story to the end?  List several exam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What does the necklace symbolize when Madam Loisel first sees it in the black satin bo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he loses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truth of it is revea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 Give examples of irony from the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 Summarize the plot:  _______________ wants _______________, but ________________, so _____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tor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eck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Kristen ITC"/>
              </a:rPr>
              <a:t>In one paragraph respond to the following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esty is the best policy” is a common saying. Do you agree or disagree with it?  Explain your answer. Tell about a time when you obeyed/disobeyed this say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as invol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iss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you change your decision? Why or why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The Necklace”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240" y="30481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y de Maupass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Sterling Pulled Drop Necklace jewel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0056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cklace” takes place in Paris in the late 1880s.  At that time and in that place, social classes were all important; people were born into a certain class, and that was usually where they remained for the rest of their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Focu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ny: a contrast between appearance and re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mbol: an object, a person, a place, or an experience that represents something else (usually something abstra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Necklace” question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Mathilde wish about hersel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her excuse for not being able to go to the par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Mme. Forestier (what does she do in the story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Mathilde have to fire her mai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urprise en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your own definitions/synonyms for the vocabulary terms found in the stor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essa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ns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h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rbi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3:55:02Z</dcterms:created>
  <dc:creator>psrc</dc:creator>
  <dc:description/>
  <dc:language>en-US</dc:language>
  <cp:lastModifiedBy>Ms. McCall</cp:lastModifiedBy>
  <dcterms:modified xsi:type="dcterms:W3CDTF">2012-09-24T01:08:27Z</dcterms:modified>
  <cp:revision>15</cp:revision>
  <dc:subject/>
  <dc:title>“The Necklace”</dc:title>
</cp:coreProperties>
</file>